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D90-E353-480F-9070-40D34B29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C10-BD3C-4F32-A56E-BA4DD0A8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489B1-3589-46F8-AC96-61E87EF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7B210-E68A-4A3D-8339-E3B6707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EE1AE-340A-4CB4-9C36-6B0D5BB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8DE1F-6712-4E99-83A2-C79AAE7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42218-C63C-4DD9-B4F5-E7BEE63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DD597-BDBB-4375-B8B1-8537179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4826-C81F-4065-96D2-9B0EA7C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6250-1933-4175-A91B-AA83CEC3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048A5-7E5E-4158-941A-0AB853A5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13FF-8FF2-4F1B-82BD-B77B4BCC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59D-3883-4E94-8542-A62B4D89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B0912-1435-4C3C-B401-395B1ED4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B93DF-4379-4D87-832F-B6F6A7F6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B2F17-4E2B-41E0-B907-2B174AAF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1962-B0EF-495B-893D-5874F71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23D3-5C46-4D53-9817-C18C19B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B4AE3-6738-426C-94EF-E574F37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C1E0B-596C-49F1-957E-C568D3C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2C1F7-5A63-4207-9248-E4E22D6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BD171-9086-4080-8E7F-9A9FFF7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69DDC-8A9A-4846-BA6C-EEF7C0FF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D90-F4B6-4945-A0FB-0CC65F17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991EC-50A2-4D1E-BA4C-8C76B9D4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40040-45E9-43DA-801E-FF2DC29F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AA80A-BD35-4311-878D-A533962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3A98-EBF3-4F41-BBF9-16BD16B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B8D02-42A9-4D62-9835-DC6B8D2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C58D2-6F8E-4A47-B712-1B32FD4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CA8B-FF98-462A-A773-84B8BD62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1148-CD42-472B-9C53-68189E3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36CB-05C9-46CA-936E-A363291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CBE4-392E-4107-AEAA-3470FDC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E3D-5202-4B2F-B3B4-F3F669A7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56B49-83AE-4EC8-A22C-CBB9783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9481D-817E-46E0-B4AC-2637FC6F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C5C7-CB08-49DA-8437-8E94B6AE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8194-89E8-4DC7-9E94-63B02DB4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E04F7-CB36-48BB-8DCD-0832B924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27DA4-75B1-43D1-96AA-F465E8F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B15B2-BBC2-48DA-8187-28ABD75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6BFFD-C982-43BB-A792-1E408E0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41E30-7F63-4172-A655-B13D5E5B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BC49C-ED67-4417-99EA-097996B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B76D-BC72-4440-91C9-0E7F8691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17EB8-7EFC-4878-ACE2-5FDB6771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FF1D2-2CF4-42D9-98FC-5044950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FA56F-FAB0-4D17-A89B-ADE4FF9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1E686-A8C8-429E-A4E6-35F1300E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8FDC8-5671-4D38-908F-08BAB50B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9987-D51A-40CE-8914-59139FE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1CB-CCBD-47AA-B2AC-64658235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F9D-9437-45CF-BED6-C39A11E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433-1A70-45EB-BE94-C22C074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83E4-8539-4269-A1D3-ECF07D1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F8A-7B4C-4D8C-BF14-47508D5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79A4-F1E0-492E-B21A-71E6E16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419D-1F42-4366-A5C6-03529B2E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A2A-ADF3-4804-94E2-30482C4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E5F1-FFF3-4FD9-A26A-2DAC1DD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967-F443-4526-8022-7913A599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7788-A198-466A-B504-59DC08EF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5781-DE9B-4F7A-9784-FFC7728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76D5-9D7A-4AA8-B61C-1C148CB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5C1A-DD2C-4797-87FB-C11FD50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673F-65BC-4CA7-ADD2-F8CF4E5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79B-5EBD-4EF3-AC9E-A6AF324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E5AD-17AF-40AF-9228-D42C0E1C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FF91-B431-4AB3-A252-DDE3318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E62B-B525-450A-883E-83280221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37A9-A5D0-4007-8C26-B2039A6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ED62-C005-4B3A-A0B4-287DAD92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8E16-E824-4637-8C01-DF8E521F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79B5-20D5-48CF-97B2-6A044FD2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4348-6293-4214-9806-DCBF31EA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2A89-A2B3-40F1-9894-E65AF6F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17ED-0F16-469B-8CAF-D244538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CE0-E0F6-43C3-BDF9-79DCEDA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1665-A540-48BD-92DE-4C8A4BB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F4A3-5249-4CDC-AC58-097414F7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D3FD-6367-448D-812F-3BF89D0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BEF4-D9BF-4ACE-9A0E-3BBE852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E28A-6D3C-4B5B-A5FA-6916E3B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7BA7-392E-4A81-A4F3-DD0C8005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35C6-6E30-4332-B47C-8F73A51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C250-1967-4F9B-887D-C848CFC0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4FD2-DF5F-4D36-B784-5E7500DD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9D76-CC7A-4D4F-946D-07FDB762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503-E4F0-4AE6-82FC-FCEFF29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A50F-4E16-4C03-BE09-39F92B05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B4E9-ED72-4D58-99F4-7E97F662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3B07-EA83-45AE-B22E-C383647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FCA2-160A-465D-9D42-3B7CF500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4EC3-AD94-43BD-ACD9-8612AE4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19FE-818D-496C-A26B-B9BB413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24264-4CB3-4A81-80C4-D7597C7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9D63-740E-4319-947E-DEBFA44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031D-6C14-487A-A884-F7FD1A2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D730-268C-4FEA-97D0-0DB99CA7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7D2-25C7-41CA-81FA-3ABB8287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043E-B361-46CF-A521-B5C53E3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7D7E-0403-4A7F-9F0A-6D4FB871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7FA8-CF43-4C9F-BAD5-82FABE02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350DC-0498-485C-BC16-B9E008D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BDF8-726F-4E04-89FB-28688E94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1CE2-2980-471B-BBD8-77A56A0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6FDD-747D-4314-AED2-F4451D96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C1A59-48CA-4693-915B-5E0A78B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914E-97AD-481F-9D95-A7A4EE9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A5BD-51C0-45B7-B03D-5AB713F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CB5-DD66-4A07-812D-AA0146E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30CB-3F1A-481B-BB44-C919D8A3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B914-F0BA-4CC8-ACD9-314F2A80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5561-2633-426C-9D4C-3EE1AB9A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624E-9B60-4F12-B27D-92A7E9B9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674BD-4EDE-4D8C-A218-B019D5E7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6F67-627D-452B-BAE7-CE3BBC67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FF19-AE74-4AB0-805C-6A94CC2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B0C7-BA92-40D5-BF32-1C132A1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7D5F7-1715-4215-A06B-D1E0A6A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5CCA-A5B0-4CD2-BF90-4E10114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6D3-FE86-4850-8ACC-B0F8A4E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0C6C-4886-4A09-97BD-C85DDAF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CE59-DFF4-41A5-B6B8-FB770A5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7DAB-05B8-41B5-8687-2E64A26B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14C8-4C3B-4A41-A769-333F82B7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5E42-72F7-4DCE-827F-1A45847D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D661-F8CB-4920-B335-D98C0143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9C10-EBCF-4455-9C10-DABD8D2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8A43-4AE5-4A52-9865-C1662B7E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F2A6-96F7-43AA-84C6-EAB52FA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69BC-58E1-4AED-AD43-5B7690AC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491-15CB-4706-B5F8-6ADD0A8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79C2-AB4B-46BA-969A-673FE94B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BB4EF-0CDC-4E58-B317-1FF66A4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CE88-473D-45F5-9432-CBDCEA4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9F16-ACD3-464B-9093-75DA6E7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AAD5-1555-44DC-AE48-BC4FF88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0035-2EDA-4A0E-BB40-F692432E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2DCA-F4B1-4F77-AE38-39E551C9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B6A8E-FCEA-4224-AB5D-B314EA45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43D86-66CC-40DD-ABE7-94B8E758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1281B-3C3C-48BB-A80F-5B2CCFC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467-BA97-431A-B128-A39040DB80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1326-41EC-4644-8A63-E68D698267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6A43-A62D-4C8B-B1F2-3A8DD0F6BA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497-5069-430D-A420-FA138E71F7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2BA-D01E-47AA-BF5F-905C35336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E4A-7091-4D5D-BB17-FFEE99FCCC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DB4-4C92-4F16-AC18-C4EE9D4609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357-35D7-47A8-BAD5-8B09497C1A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581-D1B6-4E39-BFF6-CB9BE2585D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A8B-3133-452F-8F67-C7BD6FD471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EB47-1358-4607-B7F8-FB036CD497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5F25-39B6-4026-BDC5-65DAC63224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70 Počuj našich 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 našich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mohúci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jnosť darov v každ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e z tvojej dlane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aj tento manželský pá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, čo im treba, ob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u, nádej posilň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ia láskou napl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osti sľub stvrdzu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to dome tvoj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ich, nech ti zbudu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m aj v srdci svoj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om sám by rád si bý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dával, slzy stie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il svojou milosť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ich stálou radosť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ich kráčať živo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 nasled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hode aj v čase z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ti 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deti vychov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m slúžiť, lásku dá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ich dni sa pomi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im v tebe spočinú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2:36Z</dcterms:modified>
  <cp:revision>72</cp:revision>
  <dc:subject/>
  <dc:title>Je veľký náš Pán, on slávy je Kráľ Nech do všetkých strán  spev vrúcnych znie chvál.</dc:title>
</cp:coreProperties>
</file>